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929-238D-40BA-AC25-ACED3B79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F79-CF89-46CE-871D-13BB01A8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6A9-1351-4C6C-B2FA-C358C377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3D7-5305-44BD-BB75-AF77208A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BB8-6F26-4B29-97C6-38E40D74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548-8A4B-4FEB-87F6-DBAA1F62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518-28AD-48A2-8A27-01984DA8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ED1-4E19-4317-8E6A-47269741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36E-52A4-4FB1-9FC7-0D834149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5CF-DD17-4175-BAE0-E9DDDB47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FCB-391A-4A97-AC49-1F6D0FD5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DB7-F15A-482F-B092-A03C785E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C9A7-A6D9-4B99-BC68-FAE2CE9E59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50125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14Z</dcterms:modified>
  <cp:revision>73</cp:revision>
  <dc:subject/>
  <dc:title>Boden aktuell</dc:title>
</cp:coreProperties>
</file>